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wmf" ContentType="image/x-wmf"/>
  <Override PartName="/ppt/media/image8.png" ContentType="image/png"/>
  <Override PartName="/ppt/media/image11.jpeg" ContentType="image/jpeg"/>
  <Override PartName="/ppt/media/image9.png" ContentType="image/png"/>
  <Override PartName="/ppt/media/image13.wmf" ContentType="image/x-wmf"/>
  <Override PartName="/ppt/media/image12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2CBE-BA6D-43FB-ADC4-1659D1B23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0965-29DD-40C5-A537-9A48719DE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ECBC61-757B-43DD-B637-0B4C2F9E2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64E768-A5B8-4955-A400-434252D98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9CEC38-0B67-414A-A04B-DBF46E3FA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47EBE5-38ED-4DF4-B1A5-67487B181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0E24A3-C42A-4A78-90FC-5FB9A6F43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3A496F-6D6B-463D-B5E0-750AA64B3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00FFEC-FC6C-42E7-9CD0-7E287BECF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27D08D-0CE1-4698-8396-AC7E406D7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64DC21-AE46-46FF-B9A7-5CAF86BE1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EF8230-31FB-4F85-90DF-F787E06D6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DCE7-4747-4556-A1B2-7A0F8BA84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5DD940-7D8A-4771-8D7E-9D0A56DCD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CD1FA2-384B-4609-B2C0-FCAA98002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8A8DBF-159A-4A01-97F5-1231ADB50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29F9F2-7042-4010-A01E-920947208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88FBD6-2015-4A28-9F11-F48E37583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441B6F-6139-474C-A927-BFB4299A2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ABBE37-C47D-4EE7-BC3C-4B3800449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84C776-A292-45E6-B680-9608C8BC8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4BF89A-C73A-45EC-A1BA-04EACAA99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8FDF77-259C-42D7-9BFB-A12F0857D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C1F6-698E-4EF3-B3D0-AF7E4C919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E8BD31-CEB0-4CF6-B048-A749DD884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9C1849-C72F-476A-B9D1-1045868F3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0FDB7D-7268-4919-8883-326D17355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F9FF90-06BE-4A9A-94D3-11FB442ED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13F7CB-245E-45FB-B9E9-9341577BE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B099C7-6567-497D-AC2A-4CD6E0FE7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342B58-6F79-4320-8ED9-988BC7A23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30A754-AC83-46E6-9F54-700FBAB6B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C4BA92-73F4-44CA-B76D-7824EC764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8400D0-1458-4252-B8EC-29EA1D010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0F5E6-7019-49C1-8705-3DDA287EA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64FBA0-F4C7-4C12-B81A-A523755AB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444916-8978-48E1-9790-CBF6C2468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AB857C-62A8-47DB-8402-BF9CB078C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15BD09-BE7A-4977-9E6E-DC5A60AAD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FDC37B-5E3D-4325-BBA6-B29CC1146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4FF14F-EBE5-4C60-9E9C-AD6DEE1A0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D4B65B-30D8-4A9B-9B91-9A6F91AFA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44B25F-2A71-4CC8-A991-9BD0F2A5D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CCFE3F-12FD-4F37-93DD-501F0E0EE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173DBC-4BB2-4AE4-9B44-51B7A3F25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B11BF-EA6E-4795-9D16-D7C9D8B4C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08DB3E-4683-4AA2-89D0-4EECDB476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CC6AE8-8A6F-48CD-8152-03264E8D5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28CB52-31C8-4C93-B8EE-C19133D4F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C8D5AD-2F38-4732-9A59-1ADBCBFD4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859293-88DE-4E74-B091-49369D7A5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04767-B8CB-467E-885D-39509A238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B568C-40F0-46FD-BF12-1B1964FE0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7582B-AC75-40DB-9372-2ABF4AC61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F2074-9327-4D19-B673-19094913A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55E74-A673-4EEB-A582-145D4116F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8ECC-371E-45C3-971C-B49E259FA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B197F-519D-4C84-8887-98F8A91EA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73C4E-EFF8-491D-8FCE-BE3EFE2C9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21626-B711-4545-9802-3F9F190C6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C2686-353F-4A84-8F44-C368EF087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6A3C2-B329-4B86-AD38-2DBACB5B8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334355-9ADA-47B0-AAC5-17BCF4A95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A252E5-703F-4C14-A0BC-DA45ADAFF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D62504-F535-464C-94C5-F7E901322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86EF6F-1AB6-4E13-9582-D0EC5E1F3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8D2FB3-B1A6-4114-8186-ADD853E59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1A8C-6C7A-42DB-B2CD-C44A5804B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92D4B9-63B6-42BE-A628-E2E151569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56621E-D51D-4B77-9E3E-FA83315DA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7CE237-C6B9-4E82-BC34-3D7D8B35E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E555DF-B033-4D6A-A4DF-887612542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46FC19-1C0F-488A-A0BB-22C531DFC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83D281-F83E-467E-AAA7-79335FCFD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2DABC5-1029-46A7-B5DC-2E5D18083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C6EE7C-DBEC-4EE2-8C3F-D297B8214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11D808-B562-49C1-BD2A-BED835D96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4E0130-BE87-4543-928E-F10FC9FE5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7435-DC72-49FE-BAE2-46426D2BF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7194CB-28C7-4700-AECE-1D8E0A68F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E970F2-A846-448E-BCA4-5856959B8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511745-01DE-48F6-8D1F-669EDE643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2C94DD-F62A-45BC-9A6D-5ED501C10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60FC79-551B-483E-BE35-4852CFEA1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4C1911-BEA9-4E31-B15B-1B248EB36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7883CC-05B5-4786-B77C-AFC491933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51C8F4-F8C6-48DE-BA5A-2E93FB2EB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5C1593-B343-4889-A1D1-80712B3E0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FB1A80-0B42-487B-8750-67E5D7922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AB59-2E98-41DA-8F7D-AC666AB58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6DF01F-2A1F-41D3-B5CF-F75CBA58A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F56B8F-F588-4201-93F6-581622B7A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B59961-B05E-4046-99A4-1BE3028B3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6C20A0-8AB1-4911-8F4F-43517429B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89D4E3-4C91-4D60-B45E-0B725AE3A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3CF3D2-1679-4821-9FA8-DEA195E1D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0EDDEF-E1CB-4F05-81E8-B770174A6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6DA61C-6ED0-421F-8750-2A05B8991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2BC3E4-BA64-41BC-8AB1-59D37F8E7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97F0E3-DCBA-4AE9-855C-AE43F0E49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EE55-5134-42E4-844C-61A8AB029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D15FA5-F457-4538-81FF-D6724B735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DEC3E8-F001-4F16-8EA6-B2550427C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9BE8F4-F67A-4AA9-962B-519D1C73D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C236AD-656A-440A-A1FD-0C8486D32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ED46A4-8135-4734-A7AA-6171B6C95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A13D66-1791-42C7-B34E-71077B94F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B65E70-EF19-405A-96B6-49D3CEFBF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3935B4-C7A1-4A02-BD23-8086EB209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CD3048-07F3-4977-BD62-226D8D310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AC0599-CBE0-4462-BF7C-03297B384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5CE4-047C-4EEC-9F49-C7429D8BA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0009EC-ED8E-4942-B4BA-7D911F3DB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55DEDE-9785-4383-8426-502AE9B66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5CF530-E061-45A0-B776-5DD22429D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D0EA16-1BCD-45CD-821C-6E00611FB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293F8C-06E1-462A-A955-E8A0882DD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2B4A52-A473-4B72-9414-2DCCD8B55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071EDC-ADB2-4D36-95AB-0F160C763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2B53AA-9435-4191-96BC-EB2B3E018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8A7A0B-56B8-431C-8A34-DB74D233E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9486A4-81F5-4A7A-97AC-5329F05CC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51A1-2F35-4E97-8413-885673DBB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EAAE8D-15F8-41FF-937A-77D9D2A0E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CB1048-404B-452D-BBFA-C1A6E5A8D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AD863C-8553-4129-AA8D-130014B66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ADBD95-5093-4F9B-8B3D-5FD92B045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34B6EE-11B0-4394-A39C-2F4885508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89FC04-60EB-439E-998A-2B2488BE0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FAE026-2F7E-437E-B44A-A502AB490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59D6BA-8E2F-4655-B22F-FB07D8CFC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E96DF7-DB26-436A-8E17-A25C23F0F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42E7CC-9F2E-4A12-A7CC-6D2FA881B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B9DE-DFE3-427F-920A-8F5CFF516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1ABB2B-AE97-4528-9BDD-A5B799325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CB7F3A-C71B-4357-B290-E78381808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874CA5-3B7A-48AC-A96C-E51AC01C0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2CFEB7-D645-406C-AFA2-9B7AF1EB7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128442-44AF-4382-8A13-C0FF26EC0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B5A14B-5E04-40E0-AC27-7AFC12A40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0FBDE0-0DCE-4679-8FA0-8DC62BB24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647B4F-0F55-44F3-B21A-134FCB13F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6C2941-B60A-4AE7-B5A3-59C98D763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2154B2-B8AD-4F18-8146-0095E30DB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4BD28-28B8-4E8D-AFC4-E86DAADD8684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Slika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B60DB-515E-4814-AF3F-AB4B728AB800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94404-4989-415F-9C72-B75ED4BB41A4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5B7C7-ED5D-43B8-B50E-6EB81D08217D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0B013-E1CC-47C9-A1EF-ABFF7D455BBC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81464-8349-4DFD-BE57-E26420D6EBD8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126" name="Slika 7" descr=""/>
          <p:cNvPicPr/>
          <p:nvPr/>
        </p:nvPicPr>
        <p:blipFill>
          <a:blip r:embed="rId4"/>
          <a:stretch/>
        </p:blipFill>
        <p:spPr>
          <a:xfrm>
            <a:off x="152280" y="15228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7F8E1-EEE9-42DB-B2BA-485D04FD9815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Slika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F1EFD-22DF-4D69-8337-C277A42C67E4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B1B16-9492-4B8F-882B-8A526C2739BA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AC572-4A88-4030-AF77-131A0360614A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EA6BD-0017-4BE6-9BAD-DD862CF97DAF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Slika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337" name="Slika 7" descr=""/>
          <p:cNvPicPr/>
          <p:nvPr/>
        </p:nvPicPr>
        <p:blipFill>
          <a:blip r:embed="rId4"/>
          <a:stretch/>
        </p:blipFill>
        <p:spPr>
          <a:xfrm>
            <a:off x="152280" y="15228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A439E-B700-45D1-97DB-8E3A3D208C2A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b1e19"/>
                </a:solidFill>
                <a:latin typeface="Arial"/>
                <a:ea typeface="Arial"/>
              </a:rPr>
              <a:t>Mjerimo temperatur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subTitle"/>
          </p:nvPr>
        </p:nvSpPr>
        <p:spPr>
          <a:xfrm>
            <a:off x="4648320" y="5714640"/>
            <a:ext cx="44956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44838"/>
                </a:solidFill>
                <a:latin typeface="Arial"/>
                <a:ea typeface="Arial"/>
              </a:rPr>
              <a:t>Unutarnja energija i toplin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TextBox 3"/>
          <p:cNvSpPr/>
          <p:nvPr/>
        </p:nvSpPr>
        <p:spPr>
          <a:xfrm>
            <a:off x="231840" y="1676520"/>
            <a:ext cx="6778080" cy="31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Čime mjerimo temperaturu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Od kojih se dijelova sastoji 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Arial"/>
              </a:rPr>
              <a:t>alkoholni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termometar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Opiši Celzijevu temperaturnu ljestvicu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Kakva je 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elvinova temperaturna ljestvica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Što je apsolutna nula temperatur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7" name="Slika 1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2735280" cy="60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TextBox 4"/>
          <p:cNvSpPr/>
          <p:nvPr/>
        </p:nvSpPr>
        <p:spPr>
          <a:xfrm>
            <a:off x="380880" y="1447920"/>
            <a:ext cx="8534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olika mora biti temperatura vode da bi bila ugodna za kupanj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ako mjerimo našu tjelesnu temperatur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7" name="Picture 2" descr=""/>
          <p:cNvPicPr/>
          <p:nvPr/>
        </p:nvPicPr>
        <p:blipFill>
          <a:blip r:embed="rId1"/>
          <a:stretch/>
        </p:blipFill>
        <p:spPr>
          <a:xfrm>
            <a:off x="380880" y="914400"/>
            <a:ext cx="3245040" cy="45720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5" descr=""/>
          <p:cNvPicPr/>
          <p:nvPr/>
        </p:nvPicPr>
        <p:blipFill>
          <a:blip r:embed="rId2"/>
          <a:stretch/>
        </p:blipFill>
        <p:spPr>
          <a:xfrm>
            <a:off x="4038480" y="3200400"/>
            <a:ext cx="2971800" cy="26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TextBox 6"/>
          <p:cNvSpPr/>
          <p:nvPr/>
        </p:nvSpPr>
        <p:spPr>
          <a:xfrm>
            <a:off x="29520" y="1295280"/>
            <a:ext cx="556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spitivanje temperature s pomoću osje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Box 8"/>
          <p:cNvSpPr/>
          <p:nvPr/>
        </p:nvSpPr>
        <p:spPr>
          <a:xfrm>
            <a:off x="914400" y="518148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žemo li odrediti temperaturu pomoću osjet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Picture 10" descr=""/>
          <p:cNvPicPr/>
          <p:nvPr/>
        </p:nvPicPr>
        <p:blipFill>
          <a:blip r:embed="rId1"/>
          <a:stretch/>
        </p:blipFill>
        <p:spPr>
          <a:xfrm>
            <a:off x="990720" y="2362320"/>
            <a:ext cx="3093840" cy="2057400"/>
          </a:xfrm>
          <a:prstGeom prst="rect">
            <a:avLst/>
          </a:prstGeom>
          <a:ln w="0">
            <a:noFill/>
          </a:ln>
        </p:spPr>
      </p:pic>
      <p:pic>
        <p:nvPicPr>
          <p:cNvPr id="552" name="Picture 11" descr=""/>
          <p:cNvPicPr/>
          <p:nvPr/>
        </p:nvPicPr>
        <p:blipFill>
          <a:blip r:embed="rId2"/>
          <a:stretch/>
        </p:blipFill>
        <p:spPr>
          <a:xfrm>
            <a:off x="4419720" y="2362320"/>
            <a:ext cx="3047760" cy="2085840"/>
          </a:xfrm>
          <a:prstGeom prst="rect">
            <a:avLst/>
          </a:prstGeom>
          <a:ln w="0">
            <a:noFill/>
          </a:ln>
        </p:spPr>
      </p:pic>
      <p:pic>
        <p:nvPicPr>
          <p:cNvPr id="553" name="Slika 6" descr=""/>
          <p:cNvPicPr/>
          <p:nvPr/>
        </p:nvPicPr>
        <p:blipFill>
          <a:blip r:embed="rId3"/>
          <a:stretch/>
        </p:blipFill>
        <p:spPr>
          <a:xfrm>
            <a:off x="312840" y="809640"/>
            <a:ext cx="1355760" cy="6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TextBox 3"/>
          <p:cNvSpPr/>
          <p:nvPr/>
        </p:nvSpPr>
        <p:spPr>
          <a:xfrm>
            <a:off x="2917800" y="642960"/>
            <a:ext cx="279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ff0000"/>
                </a:solidFill>
                <a:latin typeface="Arial"/>
                <a:ea typeface="Arial"/>
              </a:rPr>
              <a:t>Termometa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Box 4"/>
          <p:cNvSpPr/>
          <p:nvPr/>
        </p:nvSpPr>
        <p:spPr>
          <a:xfrm>
            <a:off x="1080360" y="1676520"/>
            <a:ext cx="631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Temperaturu mjerimo s pomoću termometr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Box 6"/>
          <p:cNvSpPr/>
          <p:nvPr/>
        </p:nvSpPr>
        <p:spPr>
          <a:xfrm>
            <a:off x="3657600" y="2438280"/>
            <a:ext cx="5334120" cy="18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Živin termomet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koholni termomet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Liječnički termometa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(toplomj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7" name="Picture 7" descr=""/>
          <p:cNvPicPr/>
          <p:nvPr/>
        </p:nvPicPr>
        <p:blipFill>
          <a:blip r:embed="rId1"/>
          <a:stretch/>
        </p:blipFill>
        <p:spPr>
          <a:xfrm>
            <a:off x="380880" y="2590920"/>
            <a:ext cx="2971800" cy="218916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3" descr=""/>
          <p:cNvPicPr/>
          <p:nvPr/>
        </p:nvPicPr>
        <p:blipFill>
          <a:blip r:embed="rId2"/>
          <a:stretch/>
        </p:blipFill>
        <p:spPr>
          <a:xfrm>
            <a:off x="5562720" y="4343400"/>
            <a:ext cx="1676160" cy="1698480"/>
          </a:xfrm>
          <a:prstGeom prst="rect">
            <a:avLst/>
          </a:prstGeom>
          <a:ln w="0">
            <a:noFill/>
          </a:ln>
        </p:spPr>
      </p:pic>
      <p:sp>
        <p:nvSpPr>
          <p:cNvPr id="559" name="TextBox 9"/>
          <p:cNvSpPr/>
          <p:nvPr/>
        </p:nvSpPr>
        <p:spPr>
          <a:xfrm>
            <a:off x="846360" y="4876920"/>
            <a:ext cx="209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Živin termomet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Box 10"/>
          <p:cNvSpPr/>
          <p:nvPr/>
        </p:nvSpPr>
        <p:spPr>
          <a:xfrm>
            <a:off x="6259320" y="5791320"/>
            <a:ext cx="252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igitalni  termomet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TextBox 3"/>
          <p:cNvSpPr/>
          <p:nvPr/>
        </p:nvSpPr>
        <p:spPr>
          <a:xfrm>
            <a:off x="1251360" y="609480"/>
            <a:ext cx="689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ff0000"/>
                </a:solidFill>
                <a:latin typeface="Arial"/>
                <a:ea typeface="Arial"/>
              </a:rPr>
              <a:t>Celzijeva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 temperaturna </a:t>
            </a:r>
            <a:r>
              <a:rPr b="0" lang="hr-HR" sz="3600" spc="-1" strike="noStrike">
                <a:solidFill>
                  <a:srgbClr val="ff0000"/>
                </a:solidFill>
                <a:latin typeface="Arial"/>
                <a:ea typeface="Arial"/>
              </a:rPr>
              <a:t> ljestvic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Box 5"/>
          <p:cNvSpPr/>
          <p:nvPr/>
        </p:nvSpPr>
        <p:spPr>
          <a:xfrm>
            <a:off x="457200" y="1523880"/>
            <a:ext cx="7858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Celzijeva ljestvic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određena je ledištem (0 °C) i vrelištem vode (100 °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3" name="Group 8"/>
          <p:cNvGrpSpPr/>
          <p:nvPr/>
        </p:nvGrpSpPr>
        <p:grpSpPr>
          <a:xfrm>
            <a:off x="1928520" y="3500280"/>
            <a:ext cx="4775760" cy="2531880"/>
            <a:chOff x="1928520" y="3500280"/>
            <a:chExt cx="4775760" cy="2531880"/>
          </a:xfrm>
        </p:grpSpPr>
        <p:pic>
          <p:nvPicPr>
            <p:cNvPr id="564" name="Picture 2" descr=""/>
            <p:cNvPicPr/>
            <p:nvPr/>
          </p:nvPicPr>
          <p:blipFill>
            <a:blip r:embed="rId1"/>
            <a:srcRect l="0" t="16544" r="34394" b="17278"/>
            <a:stretch/>
          </p:blipFill>
          <p:spPr>
            <a:xfrm>
              <a:off x="1928520" y="3500280"/>
              <a:ext cx="4715280" cy="214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5" name="TextBox 7"/>
            <p:cNvSpPr/>
            <p:nvPr/>
          </p:nvSpPr>
          <p:spPr>
            <a:xfrm>
              <a:off x="2241000" y="5572440"/>
              <a:ext cx="446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000000"/>
                  </a:solidFill>
                  <a:latin typeface="Calibri"/>
                </a:rPr>
                <a:t>Ledište vode               Vrelište vod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6" name="Picture 4" descr="termometar-zivin"/>
          <p:cNvPicPr/>
          <p:nvPr/>
        </p:nvPicPr>
        <p:blipFill>
          <a:blip r:embed="rId1"/>
          <a:stretch/>
        </p:blipFill>
        <p:spPr>
          <a:xfrm>
            <a:off x="5638680" y="2590920"/>
            <a:ext cx="3353040" cy="3352680"/>
          </a:xfrm>
          <a:prstGeom prst="rect">
            <a:avLst/>
          </a:prstGeom>
          <a:ln w="0">
            <a:noFill/>
          </a:ln>
        </p:spPr>
      </p:pic>
      <p:sp>
        <p:nvSpPr>
          <p:cNvPr id="567" name="Rectangle 3"/>
          <p:cNvSpPr/>
          <p:nvPr/>
        </p:nvSpPr>
        <p:spPr>
          <a:xfrm>
            <a:off x="457200" y="1066680"/>
            <a:ext cx="7858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0000"/>
                </a:solidFill>
                <a:latin typeface="Arial"/>
                <a:ea typeface="Arial"/>
              </a:rPr>
              <a:t>Celzijev stupanj  °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jedinica 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određen je kao stoti dio temperaturnog razmaka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između vrelišta i ledišta v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t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oznaka za temperaturu izraženu u ° 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TextBox 1"/>
          <p:cNvSpPr/>
          <p:nvPr/>
        </p:nvSpPr>
        <p:spPr>
          <a:xfrm>
            <a:off x="1251000" y="762120"/>
            <a:ext cx="689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ff0000"/>
                </a:solidFill>
                <a:latin typeface="Arial"/>
                <a:ea typeface="Arial"/>
              </a:rPr>
              <a:t>Kelvinova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temperaturna</a:t>
            </a:r>
            <a:r>
              <a:rPr b="0" lang="hr-HR" sz="3600" spc="-1" strike="noStrike">
                <a:solidFill>
                  <a:srgbClr val="ff0000"/>
                </a:solidFill>
                <a:latin typeface="Arial"/>
                <a:ea typeface="Arial"/>
              </a:rPr>
              <a:t> ljestvic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Box 2"/>
          <p:cNvSpPr/>
          <p:nvPr/>
        </p:nvSpPr>
        <p:spPr>
          <a:xfrm>
            <a:off x="571680" y="1857240"/>
            <a:ext cx="585756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Kelvinova ljestvic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određena je apsolutnom nulom (0 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Apsolutna nula temper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najniža moguća temperatura – 273 °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4"/>
          <p:cNvSpPr/>
          <p:nvPr/>
        </p:nvSpPr>
        <p:spPr>
          <a:xfrm>
            <a:off x="522360" y="5141880"/>
            <a:ext cx="464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(Npr. Vrelište helija je −268,93 °C ili 4,22 K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TextBox 1"/>
          <p:cNvSpPr/>
          <p:nvPr/>
        </p:nvSpPr>
        <p:spPr>
          <a:xfrm>
            <a:off x="572760" y="857160"/>
            <a:ext cx="562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Kelvinov  stupanj  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0 K = - 273 °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oznaka za temperaturu izraženu u 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2" name="Picture 2" descr=""/>
          <p:cNvPicPr/>
          <p:nvPr/>
        </p:nvPicPr>
        <p:blipFill>
          <a:blip r:embed="rId1"/>
          <a:stretch/>
        </p:blipFill>
        <p:spPr>
          <a:xfrm>
            <a:off x="2438280" y="3048120"/>
            <a:ext cx="3525840" cy="25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TextBox 1"/>
          <p:cNvSpPr/>
          <p:nvPr/>
        </p:nvSpPr>
        <p:spPr>
          <a:xfrm>
            <a:off x="1214280" y="1357200"/>
            <a:ext cx="3000600" cy="1373400"/>
          </a:xfrm>
          <a:prstGeom prst="rect">
            <a:avLst/>
          </a:prstGeom>
          <a:solidFill>
            <a:srgbClr val="f2dcdb"/>
          </a:solidFill>
          <a:ln w="9360">
            <a:solidFill>
              <a:srgbClr val="e6b9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0000"/>
                </a:solidFill>
                <a:latin typeface="Arial"/>
                <a:ea typeface="Arial"/>
              </a:rPr>
              <a:t>0 K    =  - 273 °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0000"/>
                </a:solidFill>
                <a:latin typeface="Arial"/>
                <a:ea typeface="Arial"/>
              </a:rPr>
              <a:t>0 °C   =   273 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Box 4"/>
          <p:cNvSpPr/>
          <p:nvPr/>
        </p:nvSpPr>
        <p:spPr>
          <a:xfrm>
            <a:off x="5344920" y="1752480"/>
            <a:ext cx="2145240" cy="581400"/>
          </a:xfrm>
          <a:prstGeom prst="rect">
            <a:avLst/>
          </a:prstGeom>
          <a:solidFill>
            <a:srgbClr val="f2dcdb"/>
          </a:solidFill>
          <a:ln w="9360">
            <a:solidFill>
              <a:srgbClr val="e6b9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i="1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 + 27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Box 5"/>
          <p:cNvSpPr/>
          <p:nvPr/>
        </p:nvSpPr>
        <p:spPr>
          <a:xfrm>
            <a:off x="609480" y="3505320"/>
            <a:ext cx="7500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rimjer: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20 °C   →  </a:t>
            </a:r>
            <a:r>
              <a:rPr b="0" i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= (20 + 273) K  →  </a:t>
            </a:r>
            <a:r>
              <a:rPr b="0" i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= 293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= 120 K →  </a:t>
            </a:r>
            <a:r>
              <a:rPr b="0" i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=  (120 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273)°C →   </a:t>
            </a:r>
            <a:r>
              <a:rPr b="0" i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= -153 °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8T11:42:31Z</dcterms:created>
  <dc:creator>Slavko</dc:creator>
  <dc:description/>
  <dc:language>en-US</dc:language>
  <cp:lastModifiedBy>Tomislav Dumančić</cp:lastModifiedBy>
  <dcterms:modified xsi:type="dcterms:W3CDTF">2019-09-17T09:23:18Z</dcterms:modified>
  <cp:revision>31</cp:revision>
  <dc:subject/>
  <dc:title>Slide 1</dc:title>
</cp:coreProperties>
</file>